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2D98-BE29-413D-AFC2-56E5B9852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5C44-A30D-4357-A830-AE0D56A5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5ED8-8170-4BFB-B38E-A59927B71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DCAA-C6E3-48F3-8E54-B9666D282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7D0A-C83D-46A7-B709-F2ECC1502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6335-6B76-4553-B7DC-816003E3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309D-60C1-4CEC-9E66-91510027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F74E-D40F-4051-A395-F241E5F7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43E7-BFE0-4986-BC78-B8062EAB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C286-A9E4-4BB8-8FD6-E2DABC42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3AF6-41B0-4F06-A2B0-2238C54B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7277-19A6-431D-A681-039BE359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BF69-1CB4-4B9B-94D3-B68E1253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E488-54A2-47D8-A960-8C6FABD5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5A8B-CF77-45B6-91B7-BEA70512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D06C-34E0-4C59-BE62-33B682BF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F1A1-DD74-4DD3-B895-7C56440CC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5176-099A-4023-9437-9D28464B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5BE6-FE99-477E-A3DD-2F5AEB4A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CF1D-C214-41CA-9EB3-D7FC3E37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738C-B3D5-4DC4-BE9F-FE45DCA1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5A69-A10D-40F1-A39D-9721A8F7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3A8A-1A9D-447C-A8A6-3281C30E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4905-5F03-4F0B-A75F-AAFED9D0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FA74-06ED-4810-8F93-952F14CA3B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2B12-C1E5-4D0B-BE8F-7E3CED1FF9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mpeten</a:t>
            </a:r>
            <a:r>
              <a:rPr b="0" lang="ro-RO" sz="4400" spc="-1" strike="noStrike">
                <a:solidFill>
                  <a:srgbClr val="b7e7ff"/>
                </a:solidFill>
                <a:latin typeface="Arial"/>
              </a:rPr>
              <a:t>țe digital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calaureat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b7e7ff"/>
                </a:solidFill>
                <a:latin typeface="Arial"/>
              </a:rPr>
              <a:t>Domenii de competență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Utilizarea computerului și organizarea fișierel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Editoare de tex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Informație și comuni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oncepte de bază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Editoare de calcul tabe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Baze de d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Prezentă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ucces!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564000" y="2708280"/>
            <a:ext cx="195732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20:38:49Z</dcterms:created>
  <dc:creator>AS</dc:creator>
  <dc:description/>
  <dc:language>en-US</dc:language>
  <cp:lastModifiedBy>AS</cp:lastModifiedBy>
  <dcterms:modified xsi:type="dcterms:W3CDTF">2010-01-04T20:45:03Z</dcterms:modified>
  <cp:revision>2</cp:revision>
  <dc:subject/>
  <dc:title>Diapozitivul 1</dc:title>
</cp:coreProperties>
</file>